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B0D3-B8E0-4495-B687-C7D1BCD03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EC38-1D43-4EA4-8939-6BAA0783A5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E798-4DEE-47CC-A883-4E8642E8EF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FAA1-727D-4B66-A76F-B7CC806261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8303-2B2A-4F09-B357-541131A9F5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362-925C-4291-96FB-902331FE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A8B-A555-4351-BF37-F2AF2235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FD0F-1394-47B7-98B6-F83B6FBD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5B67-E8EC-4537-B890-EC09AC06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2F52-06D8-4F51-B543-BC88AAED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A3C3-BCBB-45E9-9E51-EF9688FC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8982-8851-4E8E-B37C-0768B75D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98CD-19C7-45B6-998F-25BE4E90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B245-2A0C-41A9-A94D-C76B894A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7365-8270-4FA9-AC9B-20BCC876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691A-766F-48A2-B9E6-DE6527EC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F68-B101-43DB-8A3D-781F0969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4E6F-304A-4E14-BE25-10A25CA9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7CB3-F580-4C4C-984F-9D310463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8C6E-E4DE-4A68-BD40-9926F364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9589-A244-4AFB-BCEC-11F075DE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3176-4EA2-44A4-B96F-B14D76E8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9F2-E007-45DC-B8FB-4098FB16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CCD-2550-4E8B-9832-6AC99EC2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F24-4B2F-4F13-AAEA-BDC60DF2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4FF-0C24-4B7E-9FF2-8952A7B9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DEC1-86FE-4B25-A3AF-024C270A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A32-FD1D-4322-9BB3-D2D4122E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9AC-EF5B-420B-96D7-3464B229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1" name="Rectangle 3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3D7F-B299-45F3-9F97-DD3BD5DAA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7" name="Rectangle 3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6E66-3483-42DA-8877-7858EF1A3F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outube.com/watch?v=a6AnHt0TIeU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op.senate.gov/documents/cop-111610-report.pdf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gressional Oversight Panel</a:t>
            </a:r>
            <a:br>
              <a:rPr sz="3600"/>
            </a:br>
            <a:br>
              <a:rPr sz="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16, 2010</a:t>
            </a:r>
            <a:br>
              <a:rPr sz="3600"/>
            </a:br>
            <a:br>
              <a:rPr sz="8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xamining the Consequences of Mortgage Irregularities for Financial Stability and Foreclosure Mitig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" name="Picture 3" descr="newbanner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22795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ap_kaufman_100420_mn"/>
          <p:cNvPicPr/>
          <p:nvPr/>
        </p:nvPicPr>
        <p:blipFill>
          <a:blip r:embed="rId1"/>
          <a:stretch/>
        </p:blipFill>
        <p:spPr>
          <a:xfrm>
            <a:off x="1981080" y="380880"/>
            <a:ext cx="5181840" cy="388620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  <p:sp>
        <p:nvSpPr>
          <p:cNvPr id="102" name="Text Box 6"/>
          <p:cNvSpPr/>
          <p:nvPr/>
        </p:nvSpPr>
        <p:spPr>
          <a:xfrm>
            <a:off x="2438280" y="44197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ator Ted Kaufman (D-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09480" y="48006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cc"/>
                </a:solidFill>
                <a:uFillTx/>
                <a:latin typeface="Arial"/>
                <a:hlinkClick r:id="rId2"/>
              </a:rPr>
              <a:t>http://www.youtube.com/watch?v=a6AnHt0TIeU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1447920" y="373392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cc"/>
                </a:solidFill>
                <a:uFillTx/>
                <a:latin typeface="Arial"/>
                <a:hlinkClick r:id="rId1"/>
              </a:rPr>
              <a:t>http://cop.senate.gov/documents/cop-111610-report.pdf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2666880" y="533520"/>
            <a:ext cx="6019920" cy="27241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  <p:pic>
        <p:nvPicPr>
          <p:cNvPr id="106" name="Picture 7" descr=""/>
          <p:cNvPicPr/>
          <p:nvPr/>
        </p:nvPicPr>
        <p:blipFill>
          <a:blip r:embed="rId3"/>
          <a:stretch/>
        </p:blipFill>
        <p:spPr>
          <a:xfrm>
            <a:off x="609480" y="685800"/>
            <a:ext cx="2057400" cy="154764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380880" y="2209680"/>
            <a:ext cx="8382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 Box 1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sar NC 280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04.418.2628 (Max Direc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ww.maxbankruptcybootcamp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ww.maxgardnerlaw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xgardner@maxgardner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33520" y="5335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x Gardner’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ankruptcy Boot Cam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16:59:41Z</dcterms:created>
  <dc:creator> </dc:creator>
  <dc:description/>
  <dc:language>en-US</dc:language>
  <cp:lastModifiedBy>user1</cp:lastModifiedBy>
  <dcterms:modified xsi:type="dcterms:W3CDTF">2011-01-27T17:52:51Z</dcterms:modified>
  <cp:revision>4</cp:revision>
  <dc:subject/>
  <dc:title>Congressional Oversight Panel  November 16, 2010  Examining the Consequences of Mortgage Irregularities for Financial Stability and Foreclosure Mitigation</dc:title>
</cp:coreProperties>
</file>